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6BA-1704-4F26-AEDA-1CE9797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D34-8C2A-478D-A170-FEBB8147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74F-0630-44D6-8348-8C74402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EA3-7436-4006-9958-72CE5D1B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C6D9-DD2E-4297-A270-F27057C4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6ADF-CCE3-449F-89C6-CA55368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B3BF-709C-4186-84C8-A5682D1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8077-6B3D-44AF-A324-AB26E1D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85F6-E5DF-4D33-9543-E3292766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AB63-2CDA-4FDE-8811-90B4B07A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B83-D8AF-4CC7-999F-555CAD5F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B77-781A-4920-82EA-5FF231D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8A4A-27BC-4F8A-B4FB-D95D414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CA77-3446-4934-870C-910A54A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3EA7-6366-40D9-96EA-1EC22785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4AC4-B7A0-45C7-98E8-1B600DDA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B3AA-949B-44E0-AD55-254D7499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508F-F954-4D66-AD0B-35C6DAAB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6B29-BD75-47D1-A661-BF0F867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D1D4-94A5-44DE-98DD-89126BE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166F-2497-46F3-AFE3-3A30959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74B5-8B23-4EE6-BC42-783A1A1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B8D-59E1-4440-AC92-4912C72F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4C22-E8AE-466A-AF2E-D2CA611F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AC02-F282-4A4B-8983-5D867D9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1417-F745-4FE9-8811-2F707C0C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720C-FA0A-4ADA-8F22-06D3F75D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9FEB-C830-44C9-BA12-600A80B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9C57-8CF8-4238-BBDD-94225603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2FCE-0CD1-4232-8AE6-B31B676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2FC4-1A14-444B-A639-8653A89B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FA3E-C254-43C5-B39B-9EE1E7C9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E21D-1E6C-43F5-A825-9FC37344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1AD-01C7-44D1-9839-F6E47CA2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05B3-65F2-4AEE-925D-F31C5219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2F16-79EC-498C-988F-F791670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90494-E34C-44D7-87E1-870ACA2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9ADA-7DC4-430C-97DD-AF332177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A1CA-204C-460F-9A51-86D04472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3DF7-6011-4432-941E-1B9F12B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AA6C-443E-4DB5-86C7-43E76258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E19D-7FA3-4F25-8F24-78382F83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707F-6FB9-4FF7-9662-5D7D7EF5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8A7-928E-4FC7-AA11-54F36D03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53D-89B5-4360-BD08-6E566AED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7A7-4367-4FC6-91C6-59197BF6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28E-4A06-44DB-993C-DDA97D2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2CD-360B-4726-BFE2-DF8892C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8C6C-7CBE-45A2-8755-AF332B60505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6AC-48E4-4950-B12A-4BB48D64BD8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8A0-CB51-4592-A041-6D1A87B9A9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9252-5A9E-4F09-BDF6-5D266488001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79200" y="1047600"/>
            <a:ext cx="9302400" cy="1744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5643720"/>
            <a:ext cx="81104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500040" y="4714920"/>
            <a:ext cx="8229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марин Евг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43 группа физико-математического факульт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Г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ы робо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ет две системы конструкции робо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6" name="Прямая со стрелкой 4"/>
          <p:cNvCxnSpPr/>
          <p:nvPr/>
        </p:nvCxnSpPr>
        <p:spPr>
          <a:xfrm flipH="1">
            <a:off x="1928160" y="2284920"/>
            <a:ext cx="150084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7" name="Прямая со стрелкой 6"/>
          <p:cNvCxnSpPr/>
          <p:nvPr/>
        </p:nvCxnSpPr>
        <p:spPr>
          <a:xfrm>
            <a:off x="5286240" y="2285640"/>
            <a:ext cx="150120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TextBox 7"/>
          <p:cNvSpPr/>
          <p:nvPr/>
        </p:nvSpPr>
        <p:spPr>
          <a:xfrm>
            <a:off x="270720" y="3500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бот на дискретных эле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5036400" y="350028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бот  с микроконтролл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14240" y="4143240"/>
            <a:ext cx="2590920" cy="2143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000760" y="385776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обот на дискретных элемент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оинств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жно собрать не имея опыта программир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достаток: Для изменения или увеличения функций необходимо изменять всю схем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Рисунок 4" descr="помогите.WMF"/>
          <p:cNvPicPr/>
          <p:nvPr/>
        </p:nvPicPr>
        <p:blipFill>
          <a:blip r:embed="rId1"/>
          <a:stretch/>
        </p:blipFill>
        <p:spPr>
          <a:xfrm>
            <a:off x="4000680" y="4500720"/>
            <a:ext cx="2523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бот с микроконтроллер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оинств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ункции робота можно изменить не изменяя схему, а изменив программ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достато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обходимо уметь программир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3857760" y="4143240"/>
            <a:ext cx="22381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кур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ть робота, который буде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т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вигаться по определенной траектор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85724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ля достижения цели нам предстои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основы архитектуры микроконтроллеров и микроЭВ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готовить контроллер робот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учиться азам программирования на языке Си (для этого предстоит выполнить ряд лабораторных работ по программированию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готовить ходовую часть робота, датчики и т.п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полнительными задачами (для тех, кто все успеет сделать) могут быть задачи поиска света, объезда препятствий, реализация связи с внешней ЭВМ по последовательному интерфейсу RS232, работа с АЦП и т.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7120" y="400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Заинтересовался?</a:t>
            </a:r>
            <a:br>
              <a:rPr sz="7200"/>
            </a:b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 Приходи!</a:t>
            </a:r>
            <a:br>
              <a:rPr sz="7200"/>
            </a:b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 Мы ждем тебя!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чники информ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рпов В.Э., Волкова Т.А., Платонова М.В. Мобильные минироботы. Ч.2. Знакомство с микроконтроллерами и интегральной схемотехникой: метод. материалы по проведению занятий со школьниками / Политехн.музей. –М., 2009. – 64 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railab.ru/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Захватят ли мир роботы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ми функциями должен обладать робот-спасател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в домашних условиях собрать робота ? Что для этого понадоби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сердце у робо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м питаются робо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жны ли глаза для робо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икроконтроллер. Что Эт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кроконтроллер – это компьютер на одной микросхеме. Он предназначен для управления различными электронными устройствами. Микроконтроллеры можно встретить во многих современных приборах, таких, как телефоны, стиральные машины, автомоби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нешний вид микроконтроллера ATMega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071800" y="17859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нутри микроконтроллера есть процессор и периферийные устройства: FLASH-память, таймеры, интерфейсы для связи с внешними устройствами и множество других полезных схем. На нём удобно учиться программировать и изучать устройство компьюте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будем использовать микроконтроллер фирмы ATMEL, который называется ATMega8. В наших схемах он работает на тактовой частоте 7 МГц и обладает памятью в 8 килобайт. Немного, но для простых программ более чем достаточ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граммирование микроконтролле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кроконтроллер действует по заданной программе, которая загружается в него извне. Программа в нашем курсе будет писаться на персональной ЭВМ на языке высокого уровня Си, а затем эта программа должна быть загружена в микроконтролл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143160" y="5072040"/>
            <a:ext cx="3571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 микроконтролле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робота есть органы для взаимодействия с окружающей средой. Органы, которые получают информацию из окружающей среды, называются рецепторами (или датчиками), например, фототранзистор, микрофон, контактный датчик (кнопка). А органы, которые воздействуют на окружающую среду – эффекторы: двигатели, динамики, светодиоды и проч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микроконтроллера есть некоторое количество входов и выходов. К входам мы можем присоединить рецепторы, а к выходам эффекторы. Микроконтроллер может обрабатывать информацию с входов и создавать электрические сигналы на выходах в соответствии с тем, как мы запрограммируем поведение робо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3309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8:52:50Z</dcterms:created>
  <dc:creator>AustinS</dc:creator>
  <dc:description/>
  <dc:language>en-US</dc:language>
  <cp:lastModifiedBy>26090</cp:lastModifiedBy>
  <dcterms:modified xsi:type="dcterms:W3CDTF">2010-05-25T13:13:06Z</dcterms:modified>
  <cp:revision>18</cp:revision>
  <dc:subject/>
  <dc:title>Создание робота с использованием микроконтроллера.</dc:title>
</cp:coreProperties>
</file>